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C5C-F2DC-4E3D-90A3-7DFCA6A8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995-F27B-448F-AB31-77FFF9D6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3B2-A298-4303-B4DA-5DF2E6A4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78E-B273-429F-BC4B-DA13B051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08E1-758B-410A-8F70-0A57879F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9F2F-93D3-47D0-BA56-F59FC231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BDD2-CFA2-48E1-8BB6-FC614781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1B43-7E41-4FDC-BC55-D8FDCE4B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59F7-2084-48D2-9C19-70243798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D6F1-37B2-4358-AEB1-DEAA497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005C-2FEA-45B3-A0C8-39AD7916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616-28A7-4080-86FA-59FE946E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0017-9A2C-4B74-BD80-B28F5EF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C98B-A69E-49B3-95FA-5C9A0D0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963B-E4F1-4B74-A5F7-107675C1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CC95-D259-4E70-9E4A-77307CE0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FE19-5AE7-4CD0-A8B7-96AF6DB7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C03-713F-4BCC-9B48-3F0CC879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00A-12EE-4674-8E47-6752577A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D2F-2C30-40AE-B460-BEA580E6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4BA-3D89-4D1C-9D7B-07CD2F72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906-CA59-46F4-B80E-AC47108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AA8-BCD8-4E1C-A7B8-65DB87F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992-10A4-4178-A605-B102E5F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371E-B512-498E-B8F0-8BE08ADAA7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76BA-A60D-43E5-B2B3-7CFEA0DFDF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70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88cc"/>
                </a:solidFill>
                <a:latin typeface="Arial Black"/>
              </a:rPr>
              <a:t>Prefixes</a:t>
            </a:r>
            <a:r>
              <a:rPr b="0" lang="en-GB" sz="3200" spc="-1" strike="noStrike">
                <a:solidFill>
                  <a:srgbClr val="0088cc"/>
                </a:solidFill>
                <a:latin typeface="Arial Black"/>
              </a:rPr>
              <a:t> – ‘un’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Spelling Skill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132000" y="616572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primaryresources.co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More words that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405080" y="4149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p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u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572000" y="2637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572000" y="4797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572000" y="3716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sc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05080" y="2852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332000" y="1773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More words that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851280" y="270828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ortu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258920" y="2924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v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492360" y="537372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identif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211640" y="4149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u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11600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h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76360" y="450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635280" y="1628640"/>
            <a:ext cx="34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healt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More words that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258920" y="3860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w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0" y="1916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16000" y="4869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w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619280" y="1484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w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403280" y="270828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bro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27640" y="314172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780000" y="53737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om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492360" y="422100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believ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More words that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932360" y="3645000"/>
            <a:ext cx="35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s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987640" y="537372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e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16000" y="3141720"/>
            <a:ext cx="568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e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403280" y="14842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omfor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276720" y="2349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4500720" y="1341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50920" y="341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What do all these word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219640" y="5229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116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716360" y="400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187280" y="126828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1258920" y="5157720"/>
            <a:ext cx="43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71640" y="3716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k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414036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500720" y="1341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50920" y="341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They all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219640" y="5229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16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716360" y="400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187280" y="126828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5157720"/>
            <a:ext cx="43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71640" y="3716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14036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What does the prefix ‘un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187280" y="128592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116000" y="242100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116000" y="3645000"/>
            <a:ext cx="706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116000" y="486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711240" y="1484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happy,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350880" y="2619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release the loc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501000" y="3843360"/>
            <a:ext cx="370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open and remove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710520" y="51134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unfa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What does the prefix ‘un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0920" y="58053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It means ‘not’ / the opposit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116000" y="46450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116000" y="2565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116000" y="357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116000" y="170028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k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56652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kind, har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422160" y="278136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o remove the covering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3205080" y="378936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ancel the effe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059280" y="48690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96720" y="18900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Add the prefix ‘un’ to these words to make new on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87280" y="501336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87280" y="281160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87280" y="162864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187280" y="393228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2627280" y="1628640"/>
            <a:ext cx="4465800" cy="764280"/>
            <a:chOff x="2627280" y="1628640"/>
            <a:chExt cx="4465800" cy="764280"/>
          </a:xfrm>
        </p:grpSpPr>
        <p:sp>
          <p:nvSpPr>
            <p:cNvPr id="128" name="Text Box 12"/>
            <p:cNvSpPr/>
            <p:nvPr/>
          </p:nvSpPr>
          <p:spPr>
            <a:xfrm>
              <a:off x="4500720" y="1628640"/>
              <a:ext cx="25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8cc"/>
                  </a:solidFill>
                  <a:latin typeface="Comic Sans MS"/>
                </a:rPr>
                <a:t>un</a:t>
              </a: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dre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>
              <a:off x="2627280" y="206064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3132000" y="2811600"/>
            <a:ext cx="3961080" cy="764280"/>
            <a:chOff x="3132000" y="2811600"/>
            <a:chExt cx="3961080" cy="764280"/>
          </a:xfrm>
        </p:grpSpPr>
        <p:sp>
          <p:nvSpPr>
            <p:cNvPr id="131" name="Text Box 11"/>
            <p:cNvSpPr/>
            <p:nvPr/>
          </p:nvSpPr>
          <p:spPr>
            <a:xfrm>
              <a:off x="4500720" y="2811600"/>
              <a:ext cx="25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8cc"/>
                  </a:solidFill>
                  <a:latin typeface="Comic Sans MS"/>
                </a:rPr>
                <a:t>un</a:t>
              </a: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equ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3132000" y="3213000"/>
              <a:ext cx="1297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0"/>
          <p:cNvGrpSpPr/>
          <p:nvPr/>
        </p:nvGrpSpPr>
        <p:grpSpPr>
          <a:xfrm>
            <a:off x="2843280" y="3932280"/>
            <a:ext cx="4249800" cy="764280"/>
            <a:chOff x="2843280" y="3932280"/>
            <a:chExt cx="4249800" cy="764280"/>
          </a:xfrm>
        </p:grpSpPr>
        <p:sp>
          <p:nvSpPr>
            <p:cNvPr id="134" name="Text Box 13"/>
            <p:cNvSpPr/>
            <p:nvPr/>
          </p:nvSpPr>
          <p:spPr>
            <a:xfrm>
              <a:off x="4500720" y="3932280"/>
              <a:ext cx="25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8cc"/>
                  </a:solidFill>
                  <a:latin typeface="Comic Sans MS"/>
                </a:rPr>
                <a:t>un</a:t>
              </a: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fai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2843280" y="4365720"/>
              <a:ext cx="1657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916360" y="5013360"/>
            <a:ext cx="4176720" cy="764280"/>
            <a:chOff x="2916360" y="5013360"/>
            <a:chExt cx="4176720" cy="764280"/>
          </a:xfrm>
        </p:grpSpPr>
        <p:sp>
          <p:nvSpPr>
            <p:cNvPr id="137" name="Text Box 10"/>
            <p:cNvSpPr/>
            <p:nvPr/>
          </p:nvSpPr>
          <p:spPr>
            <a:xfrm>
              <a:off x="4500720" y="5013360"/>
              <a:ext cx="25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8cc"/>
                  </a:solidFill>
                  <a:latin typeface="Comic Sans MS"/>
                </a:rPr>
                <a:t>un</a:t>
              </a: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fi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2916360" y="5445000"/>
              <a:ext cx="1511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Can you identify the root w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7636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32000" y="2924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32000" y="400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b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403280" y="515772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42764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500720" y="2852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635280" y="393372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572000" y="5157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a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Can you identify the root w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47636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f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332000" y="2924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332000" y="400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b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03280" y="515772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a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42764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500720" y="2852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635280" y="393372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572000" y="5157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fa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1042920" y="2276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8cc"/>
                </a:solidFill>
                <a:latin typeface="Arial Black"/>
              </a:rPr>
              <a:t>What other words can you think of that begin with the prefix ‘un’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4:39:06Z</dcterms:created>
  <dc:creator>Pitchford</dc:creator>
  <dc:description/>
  <cp:keywords/>
  <dc:language>en-US</dc:language>
  <cp:lastModifiedBy>teacher</cp:lastModifiedBy>
  <dcterms:modified xsi:type="dcterms:W3CDTF">2011-02-13T14:28:58Z</dcterms:modified>
  <cp:revision>23</cp:revision>
  <dc:subject/>
  <dc:title>Prefix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551033</vt:lpwstr>
  </property>
</Properties>
</file>